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1BB-355F-4577-80A8-7884BD5D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38C-3715-46A9-840D-9CF9655C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1BFD0-99E6-42D2-90F3-B0C28736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F0D50-21E8-4CD6-B422-2A64629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C37BF-61A8-49D7-9C6A-7730066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0F683-0542-4E8B-80B1-438E4297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837A-2745-4A6B-B1CC-81AED154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3DB80-080E-4BA9-A799-A96137A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8C8CE-E59F-430F-8456-478F9520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D886-FF9D-4810-9A20-22EA9C3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3F307-F970-4515-AC96-A9E7EC2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2092-E57F-4363-85C1-D8692745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646-A284-4286-9143-5D752D3B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21D0-45D2-4CE0-AA14-85205901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11BD5-31BA-452B-B594-BDA2D9AE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72613-9167-4B61-95D1-6A97091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33CA2-C434-4680-951D-FA56EDF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E009-3C34-4438-BE1D-C5500A0C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09A40-DF15-4B9F-B06E-B6CDABE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BC46-2BCE-473B-A998-17B9121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61CFA-B481-4372-B786-712D39AF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0E113-48CD-4E06-9C97-864EB3CF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3F5F3-D2FF-4A47-A642-33F5CDC1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775-8E65-4455-9FFF-53BFA44B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674C6-2E9E-498C-8781-D8CCD444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9DE5A-9C8F-43FC-B631-2A40D3B4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AE528-8CB6-481B-AF7B-F5FD6A26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E5882-1FDA-42B5-B40E-E19AC81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7ED75-75BB-447E-9629-45566488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04B2A-B38B-434B-AE63-9FC259A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9BE9F-6744-4ACB-84B1-1AD3590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4420-A844-4B29-BA20-7242529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DF37-3AD0-40EF-A7C8-4B2F56F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D903D-B8B7-4C33-88D0-875D9D0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892-B4DF-4E94-86DF-253483A9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BD3BD-DA50-412F-9363-A7B6EFBA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FEEDC-DF48-468E-9310-F0E16893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003CD-D261-412D-8E11-481DF770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B6ACA-D4D0-42CE-80B8-49FC7241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91EA7-1724-4F89-A49E-82161E9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66C1-B42A-4DD8-829F-1A31396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342E8-FB93-4309-894E-29D8E97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F67B8-550E-4E76-B4E7-A478677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EB5B7-32E8-4D37-BF5C-32F9B24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149F4-880F-46A9-A17D-BF3E24C8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AFC8-379B-4161-B1EE-8DEE7DF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3B36A-6CAF-43FB-B92C-09A997D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D7B99-D066-47F3-A106-0F8FB05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85AB4-925F-4CCB-B451-201583AD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E0951-287E-428C-B4F6-810B3EB5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AFA7F-8127-4DA7-B627-3C27214F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6AF3-008C-4F10-B5EE-902867C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99E2-3691-4F94-8B0A-4531328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73E-0B21-4989-928D-B297BCC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F12B-A4E8-451F-8C0D-06FCEB8B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A32-3CBC-4B9E-B427-E99EFE8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CCD-DE2C-4F3D-9D75-A0546CB1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EB4-ABBD-47DB-8381-A80A810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A1A4-3220-4509-9D11-4FCDDF5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B749-1112-4D50-B22E-184CF703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8E0-5050-4837-A3CA-5818CE29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CBCE-13D5-4CBE-B06E-1BF57AAD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C6A0-4555-4DFD-8345-AA58BC97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5024-C7BA-4195-BE88-FD951B8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7F4D-9F44-4F37-908F-79900E76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4A60-1F0C-4AB0-A3BC-3552BE04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F9798-CA13-4C61-BCF8-6747FF65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349-A9BB-42B1-8115-C63DC2B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0552-5D90-4340-93A4-407A562F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67BF-C09B-4F18-86E0-3870175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6DD2-44A9-4FF0-AEA8-A9F58BB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EA23-2D20-4876-AFD7-E473A36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C786-4176-4DF2-BA2D-2E275D2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F578-FF16-4310-90FF-9C757EEC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C985-FCB0-4E62-AF59-7211DDA3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B072-47DA-45F0-8B39-E03C3399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5186-4EDC-4608-AF5A-7544F0F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B1AE-6D9F-424C-94A8-4509705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219-5D69-4CA9-B390-8C7A6144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710A-374F-4001-9423-CF738703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6A6C-1FD5-48BE-9F41-1711AD8D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F807-6917-4FE6-93A6-2CB166FA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8960-9913-4A4C-894F-64D9949A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485F-2E39-4B08-AC41-2E5C847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2D36-0ACE-4A96-B714-16400C0E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DAB7-1048-49BD-BD2B-B3807C86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D2AD-8ACE-4B3B-B290-3D3740F3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586E-AA43-43C1-9EE2-E1434D1A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82F2-1AD8-49BC-A611-9D8B70C4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402-AC61-47A7-9A22-6E7A663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9046E-77D6-48F0-9BDE-4624A866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D71A4-C15E-4C3C-8399-0D19FBF2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B0DEF-242D-4420-A72A-4CD78716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45393-33B7-459D-B738-27A23CD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F324-9BF9-4177-8E72-32A41993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19295-6449-4C4A-8448-7C84840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F6370-0A0B-4C35-B494-87785A8C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626C-D2BD-400A-A882-D3C6A3C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9ACA-2956-4FA2-86FA-19CB28EF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1BC9-857A-4E58-A3AB-FADF3B0C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065-3BBF-4DFA-AB7E-E9D9678D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40D73-3A21-449C-AC02-AA75B48B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7E549-3D7E-4FE9-9D31-46FF192B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C1A18-4DB9-4B99-8068-03EF336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8A3E-E054-43E7-934A-F24B9FE1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C50E-7286-4CD3-B52B-C571CE2E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8CF2-53EF-4834-832E-E609EF64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3BEB-5F1F-44E1-AEE3-775BAD5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B0B5-F1AD-4437-A614-10FE020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75A86-3F44-4D62-96D7-D32D585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4A7D-CB72-4CC5-94A5-ED710C5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441-674F-400E-82F8-7085A8F1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56EB-BAF5-4B26-81EB-7563193D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FE9D-CFC3-4277-86B1-79CF2E75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9EDE-6B5E-460C-89A6-8EA9224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4378-7DEE-4CF2-996A-BA91DA5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26C0A-BF32-4496-A081-B263F11F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0D67-3905-470A-8256-2B3D6BDD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FD607-3A87-43FB-B8CF-20B1E4A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157E-90D7-4E47-9494-133E81E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60E30-ADE9-41F6-98C9-54457FE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1DCC6-558A-4C7D-BF70-55FA60A8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C69-000F-4FC6-92FC-9CF59E0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6B973-B22A-46B3-9C29-FAAF5126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0170-1895-4369-902E-9216320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27658-CEF5-41DB-97BE-AF0F548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4639B-8D92-420D-9013-918C818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B9C19-9A6C-4EC9-8576-A9A7981E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B1CB8-2B9D-4625-90DF-1E3016E1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3C30-A363-41BA-9C49-73034251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D594-C0D3-4FC3-9A59-5117FE7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EF0D5-86BE-4375-8F17-04BA415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996C2-53B1-4F54-BFAA-EC1ED46E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7F3-8726-44F1-8235-B62DEF0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8F9B-380F-4FF7-AC8E-C25EF10B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90FE-15DB-4585-9953-C0F7A83A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E1DA-FFA9-404B-BC5C-1DEF141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3833-3A12-4653-AC47-25E1830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8F695-2FDB-4457-B544-07C0A15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39C1-D753-4230-BC4F-0B36564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0503-035C-43FF-8423-6ED0BE55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97DA3-1ECD-4851-93FE-4EE4EF49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7BE50-C5A4-4C92-92C8-39F58FB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F4427-FB53-4CB9-BBED-4693A0D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02E-BB04-470A-A4EC-E64EF9BB3C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209F-FA01-4953-91C4-493AD71FEEB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9D6-CD33-45D6-928D-F18FAB2C942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BAE7-58B1-4FDF-9B0C-7C21B6C02C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2C8-3EC4-4D4B-83FB-73F87745BA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F94F-13E2-41B2-A6EB-0EB779B45FF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69F-4A64-4388-BDE0-8F0C289431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CE1E-3192-46E8-BE52-D70A43E374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9083-8224-4E80-BB8C-48F877B348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1AF1-67DD-42DC-9636-7DEC8F88043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669-6FD7-45BE-B78A-06E3940A07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1FB1-C16D-461E-8845-0FEB16179F5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Čestični sastav tv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609480" y="182880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nastaje pijesak, brašno ili piljev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miris parfema širi prostorij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mo nestane šećer kad ga stavimo u čašu s vo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638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304920" y="1447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uljna mrlja prestane šir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48480" cy="16952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0"/>
          <p:cNvSpPr/>
          <p:nvPr/>
        </p:nvSpPr>
        <p:spPr>
          <a:xfrm>
            <a:off x="1036800" y="5105520"/>
            <a:ext cx="670500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bljina mrlje jednaka je veličini jedne molek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457200" y="8524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304920" y="1295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šanje molekula različitih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732200" cy="24382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304920" y="20570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miješaj 100 mL vode i 100 mL alkoh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0"/>
          <p:cNvSpPr/>
          <p:nvPr/>
        </p:nvSpPr>
        <p:spPr>
          <a:xfrm>
            <a:off x="2001960" y="533412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mo je nestalo 10 mL tekuć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Slika 7" descr=""/>
          <p:cNvPicPr/>
          <p:nvPr/>
        </p:nvPicPr>
        <p:blipFill>
          <a:blip r:embed="rId2"/>
          <a:stretch/>
        </p:blipFill>
        <p:spPr>
          <a:xfrm>
            <a:off x="457200" y="77940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304920" y="1295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šanje molekula različitih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4992480" cy="2452680"/>
          </a:xfrm>
          <a:prstGeom prst="rect">
            <a:avLst/>
          </a:prstGeom>
          <a:ln w="0">
            <a:noFill/>
          </a:ln>
        </p:spPr>
      </p:pic>
      <p:sp>
        <p:nvSpPr>
          <p:cNvPr id="519" name="Content Placeholder 2"/>
          <p:cNvSpPr/>
          <p:nvPr/>
        </p:nvSpPr>
        <p:spPr>
          <a:xfrm>
            <a:off x="380880" y="20574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miješaj 1 dm³ graha  i 1 dm³ ri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1182600" y="5181480"/>
            <a:ext cx="67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ukupan volumen nakon miješanja man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zbroja pojedinih volum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Slika 6" descr=""/>
          <p:cNvPicPr/>
          <p:nvPr/>
        </p:nvPicPr>
        <p:blipFill>
          <a:blip r:embed="rId2"/>
          <a:stretch/>
        </p:blipFill>
        <p:spPr>
          <a:xfrm>
            <a:off x="465120" y="779400"/>
            <a:ext cx="13557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4"/>
          <p:cNvSpPr/>
          <p:nvPr/>
        </p:nvSpPr>
        <p:spPr>
          <a:xfrm>
            <a:off x="380880" y="3124080"/>
            <a:ext cx="8564760" cy="201312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vari se sastoje od sitnih nevidljivih čest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lekula, između kojih se nalaze prazni međupros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cestice"/>
          <p:cNvPicPr/>
          <p:nvPr/>
        </p:nvPicPr>
        <p:blipFill>
          <a:blip r:embed="rId1"/>
          <a:stretch/>
        </p:blipFill>
        <p:spPr>
          <a:xfrm>
            <a:off x="2666880" y="857160"/>
            <a:ext cx="2838600" cy="2032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5619240" y="2471760"/>
            <a:ext cx="204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odel čestič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rađe tvari (kuglice izmeđ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ojih su međuprosto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343080" y="1981080"/>
            <a:ext cx="7351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mo nestane šećer kad ga stavimo u čašu s vodo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se voda oboji kad u nju kapnemo kap ti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5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9:00:06Z</dcterms:modified>
  <cp:revision>70</cp:revision>
  <dc:subject/>
  <dc:title>Slide 1</dc:title>
</cp:coreProperties>
</file>